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C1C-9F7F-490C-81CE-D29F6355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4806-67BB-4D62-9C9C-1FF5C55F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1785-5E62-4A9E-BFC9-F9EA8546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FBD3-56CA-4D64-8A87-95708A90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62F9-6456-4784-A5B8-79D30A87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F4E-7539-4E6D-8B0E-5BEC92BA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59C3-1E8B-43A7-8B6A-4DEB513A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BD8-4B6B-42DB-9A42-8EA20089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BB73-3864-41D1-80C6-50E48CFD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181-61A1-4446-B0C7-38FA8164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3289-1188-4DAD-B4D2-CFD53C9A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EA8-0B63-46B4-AD7A-6CC0F314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B380-8F02-4435-9996-53307ACEFE29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4/1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773360"/>
            <a:ext cx="813744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Minion"/>
                <a:ea typeface="文鼎中黑"/>
              </a:rPr>
              <a:t>Industrialization</a:t>
            </a:r>
            <a:br>
              <a:rPr sz="4400"/>
            </a:br>
            <a:r>
              <a:rPr b="1" lang="en-US" sz="3600" spc="-1" strike="noStrike">
                <a:solidFill>
                  <a:srgbClr val="800080"/>
                </a:solidFill>
                <a:latin typeface="Minion"/>
                <a:ea typeface="文鼎中黑"/>
              </a:rPr>
              <a:t>Organizational Set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013360"/>
            <a:ext cx="38890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Minion"/>
                <a:ea typeface="文鼎中黑"/>
              </a:rPr>
              <a:t>Thonhauser / Kroe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Minion"/>
                <a:ea typeface="文鼎中黑"/>
              </a:rPr>
              <a:t>BenQ RD 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Minion"/>
                <a:ea typeface="文鼎中黑"/>
              </a:rPr>
              <a:t>19.04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73360" y="2130480"/>
            <a:ext cx="1235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08000" y="692280"/>
            <a:ext cx="8893080" cy="5544000"/>
            <a:chOff x="108000" y="692280"/>
            <a:chExt cx="8893080" cy="5544000"/>
          </a:xfrm>
        </p:grpSpPr>
        <p:sp>
          <p:nvSpPr>
            <p:cNvPr id="47" name=""/>
            <p:cNvSpPr/>
            <p:nvPr/>
          </p:nvSpPr>
          <p:spPr>
            <a:xfrm>
              <a:off x="3348000" y="763560"/>
              <a:ext cx="158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ustrialization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634920" y="1123920"/>
              <a:ext cx="94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. Thonhaus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08000" y="692280"/>
              <a:ext cx="8893080" cy="5544000"/>
              <a:chOff x="108000" y="692280"/>
              <a:chExt cx="8893080" cy="5544000"/>
            </a:xfrm>
          </p:grpSpPr>
          <p:sp>
            <p:nvSpPr>
              <p:cNvPr id="50" name=""/>
              <p:cNvSpPr/>
              <p:nvPr/>
            </p:nvSpPr>
            <p:spPr>
              <a:xfrm>
                <a:off x="2771640" y="692280"/>
                <a:ext cx="2778120" cy="695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84360" y="1700280"/>
                <a:ext cx="770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108000" y="1987560"/>
                <a:ext cx="1223640" cy="4248720"/>
                <a:chOff x="108000" y="1987560"/>
                <a:chExt cx="1223640" cy="4248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08000" y="1987560"/>
                  <a:ext cx="122364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P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K. Kroese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08000" y="2469600"/>
                  <a:ext cx="122364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ustrializa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ject Leade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08000" y="3109680"/>
                  <a:ext cx="122364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ontrol mech.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duct project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from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e M</a:t>
                  </a:r>
                  <a:r>
                    <a:rPr b="0" lang="el-GR" sz="1200" spc="-1" strike="noStrike">
                      <a:solidFill>
                        <a:srgbClr val="000000"/>
                      </a:solidFill>
                      <a:latin typeface="Arial"/>
                    </a:rPr>
                    <a:t>α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to M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representative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 PD-Team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ember of mech.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ustrialization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ject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08000" y="5755320"/>
                  <a:ext cx="122364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TPE (for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ustrialization only),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AAL, MCH, KLF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403280" y="1987560"/>
                <a:ext cx="1223640" cy="4248720"/>
                <a:chOff x="1403280" y="1987560"/>
                <a:chExt cx="1223640" cy="42487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403280" y="1987560"/>
                  <a:ext cx="122364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MD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O. Schrag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403280" y="2469600"/>
                  <a:ext cx="122364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echanica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Engineer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Kamp-Lintfor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403280" y="3109680"/>
                  <a:ext cx="122364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vide best-in-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lass staff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and work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environment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 KL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Resource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anagement KL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ompetence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enter “mech.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simulation”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AD Tool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anagemen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403280" y="5755320"/>
                  <a:ext cx="122364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KLF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2700360" y="1987560"/>
                <a:ext cx="1223640" cy="4248720"/>
                <a:chOff x="2700360" y="1987560"/>
                <a:chExt cx="1223640" cy="42487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2700360" y="1987560"/>
                  <a:ext cx="122364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MD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H. Riesenegge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700360" y="2469600"/>
                  <a:ext cx="122364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700360" y="3109680"/>
                  <a:ext cx="122364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vide best-in-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lass staf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and work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environment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 Mch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Resour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anagement Mch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AD Tool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anagemen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700360" y="5755320"/>
                  <a:ext cx="122364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MCH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3995640" y="1987560"/>
                <a:ext cx="1223640" cy="4248720"/>
                <a:chOff x="3995640" y="1987560"/>
                <a:chExt cx="1223640" cy="42487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3995640" y="1987560"/>
                  <a:ext cx="122364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MD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U. Beeke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995640" y="2469600"/>
                  <a:ext cx="122364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echanica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novation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995640" y="3109680"/>
                  <a:ext cx="122364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edevelopmen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of new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technologi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an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form facto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Technology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scout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Suppor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ustria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desig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strategy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995640" y="5755320"/>
                  <a:ext cx="122364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TPE,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CH, KLF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292720" y="1987560"/>
                <a:ext cx="1223640" cy="4248720"/>
                <a:chOff x="5292720" y="1987560"/>
                <a:chExt cx="1223640" cy="42487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292720" y="1987560"/>
                  <a:ext cx="122364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PR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N.N.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292720" y="2469600"/>
                  <a:ext cx="122364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echanical&amp;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P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cess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292720" y="3109680"/>
                  <a:ext cx="122364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D Quality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onitor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ces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defini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lanning &amp;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ontroll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292720" y="5755320"/>
                  <a:ext cx="122364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MCH, KLF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6588000" y="1987560"/>
                <a:ext cx="1223640" cy="4248720"/>
                <a:chOff x="6588000" y="1987560"/>
                <a:chExt cx="1223640" cy="42487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6588000" y="1987560"/>
                  <a:ext cx="122364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LP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H. Becker-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Bamberger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588000" y="2469600"/>
                  <a:ext cx="122364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ayout &amp;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duc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Data KL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588000" y="3109680"/>
                  <a:ext cx="122364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Provide best-in-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lass staff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and worki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environment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 KL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Resource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anagement KL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ompetence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enter “PCB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technology”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CAE Tool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managemen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588000" y="5755320"/>
                  <a:ext cx="122364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KLF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7885080" y="1987560"/>
                <a:ext cx="1116000" cy="4248720"/>
                <a:chOff x="7885080" y="1987560"/>
                <a:chExt cx="1116000" cy="4248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7885080" y="1987560"/>
                  <a:ext cx="1116000" cy="482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IND LP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R. Mailände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885080" y="2469600"/>
                  <a:ext cx="1116000" cy="641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885080" y="3109680"/>
                  <a:ext cx="1116000" cy="2645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Minio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885080" y="5755320"/>
                  <a:ext cx="1116000" cy="48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Minion"/>
                      <a:ea typeface="文鼎中黑"/>
                    </a:rPr>
                    <a:t>Location: MCH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" name=""/>
              <p:cNvSpPr/>
              <p:nvPr/>
            </p:nvSpPr>
            <p:spPr>
              <a:xfrm>
                <a:off x="4067280" y="141156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436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7964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7672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7200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6728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16436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388360" y="1700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380880" y="152280"/>
            <a:ext cx="7575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Organizational Setup Industr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2492280"/>
            <a:ext cx="1079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Mechanic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Engineer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Mun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56720" y="2492280"/>
            <a:ext cx="1008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Layout &amp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Produ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Data Mun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85080" y="3141720"/>
            <a:ext cx="115092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Provide best-in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class sta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and work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environm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in  Mun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Resour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management Mun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Competen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center “FP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technology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CAE T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Minion"/>
                <a:ea typeface="文鼎中黑"/>
              </a:rPr>
              <a:t>manag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1052640"/>
            <a:ext cx="8470800" cy="54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Quality Support and -Monitoring</a:t>
            </a:r>
            <a:r>
              <a:rPr b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ic interface to RD PTM, QM, SCM QM and QE 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ion and introduction of quality- and qualification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al audit of the fulfillment of the defined MD&amp;LPD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ining and Support of the global IND employ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cess Definition and –Standard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oduction and maintenance of MD&amp;LPD Process Documentation &amp; Guidelin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Minion"/>
                <a:ea typeface="文鼎中黑"/>
              </a:rPr>
              <a:t>Planning &amp; Contr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Interface to Business Administration in terms of planning/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Internal support at Project planning and monito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PLM excellenc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Best in class, definition of KPI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ata controlling and reporting to IND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Work out of improvement measures and implementation in B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Minion"/>
                <a:ea typeface="文鼎中黑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efinition of a common IND structure and form for any kind of doc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Creation of general specification for all product categor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Member in Patent committe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Implementation of a Know How Management syste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Collection, Assorting and Distribution of information ( Homepages, EasyDM, 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640" y="549360"/>
            <a:ext cx="63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 Pro Quality- and Process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2440" y="239760"/>
            <a:ext cx="33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Mechanical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89720" y="549360"/>
            <a:ext cx="52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IND MDI - Mechanical Inno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2440" y="239760"/>
            <a:ext cx="33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Mechanical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484280"/>
            <a:ext cx="711216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Minion"/>
                <a:ea typeface="文鼎中黑"/>
              </a:rPr>
              <a:t>Predevelop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1652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Create innovative technologies and assembly concepts (Derive product requirements to feel into Doors before M</a:t>
            </a:r>
            <a:r>
              <a:rPr b="1" lang="el-GR" sz="14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α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1652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MD interface for all strategical industrial design issues during product definition pha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1652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R&amp;D of new technologies based on Design Strategy incl. prototype-tooling and coordination of process-verificati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1652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Market screening and Global Sourcing support for new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322200" y="549360"/>
            <a:ext cx="59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IND PL – Industrialization project l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2440" y="239760"/>
            <a:ext cx="33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Mechanical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197000"/>
            <a:ext cx="732780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dustrialization project lea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rive and control the adjustment, development and qualification of complete industrialization  in all product projects from  M</a:t>
            </a:r>
            <a:r>
              <a:rPr b="1" lang="el-GR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α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to 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Optimization of the product projects in terms of value, speed and 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Interface of the complete mechanical process chain towards the overall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Member of mechanical industrialization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Optimization of the product development process in terms of duration, effort and qual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rive implementation of modularization and standardization in the product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368640" y="549360"/>
            <a:ext cx="81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IND MDK &amp; MDM - Mechanical Produc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2440" y="239760"/>
            <a:ext cx="33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Mechanical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268280"/>
            <a:ext cx="744192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Mechanical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duct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vide best-in-class staff  and working environment in KLF / M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management KLF / M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tence center “Mechanical simulation”  in K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2708280"/>
            <a:ext cx="6933960" cy="38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AD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ion, implementation and maintenance of CAD tools (HW and S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grative and aligned interfaces and data exchange to internal and external part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ure global cooperation and document management between R&amp;D sites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data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manent assessment and improvement of system and system environm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2"/>
              </a:buBlip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User groups and user tr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3"/>
              </a:buBlip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Benchma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4"/>
              </a:buBlip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Know How ex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484560" y="115920"/>
            <a:ext cx="70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IND LPK &amp; LPM – Layout and Produc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3645000"/>
            <a:ext cx="744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yout of rigid and flexible PCB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ation of high density PCB layouts to fulfill miniaturization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reation of innovative FPC designs for slider, clam shell and clam/swivel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sign to cost for PCBs (platform layer stack up; panel utilization; second source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724280"/>
            <a:ext cx="693396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arian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P-Data for component procurement, logistics, manufacturing and service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291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nt management of delivery uni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620640"/>
            <a:ext cx="7442280" cy="33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Generic Tas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and competence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PD proces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tence center for rigid (KLF) and flexible (Mch) PCB-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ure global cooperation and process alignment between R&amp;D sites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data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ngoing competitor benchmark compari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face between R&amp;D and Supply Chain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ed component library to secure world wide manufacturing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Hermann Thonhauser</cp:lastModifiedBy>
  <dcterms:modified xsi:type="dcterms:W3CDTF">2006-05-23T16:47:30Z</dcterms:modified>
  <cp:revision>125</cp:revision>
  <dc:subject/>
  <dc:title>PowerPoint 簡報</dc:title>
</cp:coreProperties>
</file>